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14.wmf" ContentType="image/x-wmf"/>
  <Override PartName="/ppt/media/image6.png" ContentType="image/png"/>
  <Override PartName="/ppt/media/image11.gif" ContentType="image/gif"/>
  <Override PartName="/ppt/media/image34.wmf" ContentType="image/x-wmf"/>
  <Override PartName="/ppt/media/image7.wmf" ContentType="image/x-wmf"/>
  <Override PartName="/ppt/media/image12.png" ContentType="image/png"/>
  <Override PartName="/ppt/media/image29.png" ContentType="image/png"/>
  <Override PartName="/ppt/media/image32.wmf" ContentType="image/x-wmf"/>
  <Override PartName="/ppt/media/image10.png" ContentType="image/png"/>
  <Override PartName="/ppt/media/image5.wmf" ContentType="image/x-wmf"/>
  <Override PartName="/ppt/media/image4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31.wmf" ContentType="image/x-wmf"/>
  <Override PartName="/ppt/media/image1.wmf" ContentType="image/x-wmf"/>
  <Override PartName="/ppt/media/image15.wmf" ContentType="image/x-wmf"/>
  <Override PartName="/ppt/media/image16.wmf" ContentType="image/x-wmf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364B-D9D2-4E35-83DC-F201231D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929-E6BC-4524-B5FC-9981D4DA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D1825-B1DA-4D5E-880C-B0D41C9B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DC22F-0CDF-4FC4-8C78-D88B3A4A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DF9BE-AB82-422D-95BD-6068738E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2F50D-0999-4F6E-ABA1-CFD8C4A0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228DAB-96B0-4B13-BC19-043D1667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6A89B-C329-4B82-9E41-1CDF9827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FBC15-04D8-4E15-93D0-6BBBAFFF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CDCB8-FD89-4803-B6D9-5F5F5ED2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FC50F-A2C0-4C0C-8AE3-F1FBDA97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AAF1F-8F91-4356-B044-D1B66E79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097-A0B6-40B9-8BFA-32DB3AF1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D735E-1206-4BC5-93B5-E24A0C3F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5BF92-8CFB-4CCC-AFB5-EFDFA673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1445B7-617F-434D-8182-0CCAE4FC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10AAF-5E3F-4EB6-923A-F367E207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CEBF9-0145-4964-B40F-5B3157D9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F0746C-EB37-4F89-B228-C909C16C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F33AB-AA05-48C5-AF4D-631AA155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2EDD7-198C-4888-8BE5-8F8C222C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4FF13-66DA-4782-9D20-C676F8FC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C64C3-F189-4CBB-A485-C4FF6821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84E-3284-4CB3-9B64-EB090E28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C7CDB-917C-4169-8BE8-075E9CF2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DC470-3E76-4572-8B66-B72F244D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B8B99-51CF-4C98-A665-2BCD50DA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784CE-4477-4838-9518-4BBD7DCC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A3CBD-4632-4F66-8C5C-80C0C560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D6EAA-80AF-42F5-A02E-6951138B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33611-9F19-406D-A32A-DB1FD29E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35421-4CAC-4CAB-95FC-2366AE19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AE7CC-9E6B-4789-99C3-DB17CD5B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E748A-D131-4AFE-B2FA-0D5D056A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EA9D-CF3B-48B5-BF1F-25B91FCB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14966-C0AD-4852-BF6D-D5F83A14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A43DC-0AD0-4F3A-A9EF-4BB5F490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D03D9-0A2E-4A84-9ACB-7592ABF4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12AF3-0B96-4962-A424-401AD544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40E9FF-0339-46B5-BC86-B117C80D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6E1E9-F5F4-4744-895F-36C4F4B8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DEF2F-F88E-4537-AAE5-D6DB7260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86C15-B304-43D9-AC75-0E477A0E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2901A-7D90-40FB-88C6-0AE8BA21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B7A9E-140B-44F7-B831-99CCE8F7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91BA-DFB8-4C1D-9F89-A3CBB2A3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4462C-6399-47DB-929E-FC6A49DB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11555-C2BC-4C2F-AE60-41F98CBE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7FE3F-AE55-47D3-99F7-34626023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78582-E904-4EF1-9F73-C9D31ABB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4BD98-5270-463C-84F4-436EFA56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2117-664B-4320-AED7-90684DE4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8B52-7923-47B4-A880-04191364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03E8-F6A8-4480-A554-ADD424C4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4581-CD73-4E99-B28E-F4600B87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2F5B-426B-498B-866C-0622408F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31F-BCD9-4A25-BE96-62CDA90A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A7EA-37BB-4AC9-BB52-4ED0C445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D734-F169-421F-A52A-56048F6C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B43A-823B-46FE-AA97-24849565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DEFB-2602-43FB-898A-D930F1E1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BBFA-9152-456B-AD91-481F69FF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5DFC7-2E96-4E5B-A8F6-868C925C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B303E-1D46-4587-95EE-0A9C5C62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9898B-C141-433E-B3B0-DFEC73BD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FD76-C8FE-43BE-89FD-EFEDB948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038C-7D0D-40B1-AF03-36498A1E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6B1-A2FF-4F38-A61F-4CCFEDD9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C893-EB2B-4C3F-B848-96AA4B62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3C57-1E73-4CC3-BFFA-293F77F4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9EF7B-306F-46E1-8106-760E872A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55C83-A2CC-4309-9D41-34486232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ECCFA-A70A-4F25-80BA-B3DD74E3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01CC4-12E7-4399-BDE7-4BBB3F40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71AB1-E214-4CF8-9EFF-998355B9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4EAF9-80D2-4D71-B957-7AD1E2E3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2CB97-78C6-42FB-89A4-AFBBB15A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003A0-ACA5-49AD-97D7-D0597702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43C-4F77-4A5A-A658-25D65CED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C52FD-100C-4BE1-A7BE-D3924FE6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CD455-2DCB-4B24-8B8B-6CFFBF16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4EB1E-0F02-4DFD-8F1D-44D19AFA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C0DBD-E4D7-45F8-8716-C443CC38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12F92-9583-4B55-BDF7-D0A37134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05706-2EDD-4263-8911-D3BA8BD9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70AA5-FC9A-424D-99A0-6E58573D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82B2D-BB7E-43D1-A4C8-733E2834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68128-72B2-409D-96A5-2C6857F6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F884B-D226-406C-BF76-BBDC1DE3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4114-B0FF-4FA9-A158-87CB366D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9FBF8-6177-41D8-91D1-E9158D58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EA5DD-3366-49BD-A360-4E1F63A3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8B711-9B40-4035-B7C8-ECA1EC60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5E1B5-572C-4D59-9EE1-D8D80C44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7BC1E-1FD2-44FA-AE78-7B4F2E57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6D8E8-3D33-4711-BB92-6117091D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EDAF2-D6C8-4A83-9585-9EE896C6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43188-3375-4984-850A-2CA15F79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C7E85-241E-46E2-A9EB-94F3378C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FD2AB-88B1-45C5-8526-6F15EBFC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76D-ADB5-46DA-A0AC-2B291492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9BF1F-5B6C-4651-B1E0-746D7068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357B1-CA2E-4DE8-B26C-738E537B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4F68E-A7F0-4CE6-BCE3-3ADB02FA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C6EAE-4B35-40A1-B4E9-FED5B07D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033B-D64F-4A72-AE0D-98B1C106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20DBD-1A61-420F-99BC-FFFA7360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05A24-EF2F-4860-BB32-5B633926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B7EC6-2037-49C6-95B7-82BAF9C1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B22E0-1B3B-4690-B1C7-74CCCFCE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88A47-0EB7-4B68-B357-C19AEED1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750-BB8F-4DAA-87F0-9BD119BA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468DD-D712-4AAE-8B7B-07EA1922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219DB-CD8D-49E7-B30D-3B508200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34908-06AE-4DD9-9584-EE0B5490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DE04F-62E3-45D4-8C4F-560EAEC3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BF847-F53B-4C66-98AA-D498C74B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ACA7B-FD56-4EA2-92DB-3B22350C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562C6-C582-4054-B937-9F33BF3D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3FDD4-A54B-4E72-AFB8-C9E52E1C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A16F8-080B-4E58-BEA3-0A1AD926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41D10-E646-41BD-93EC-FBE7A707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97B-5BCB-4A21-A948-E73CF0C2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C1645-ADCB-4E79-8656-B53FE614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AEC62-84FF-40B6-B0C2-8483B015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FD3AE-B793-4669-98C2-ECC9D22D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F400F-6501-4817-BC42-BDE2C3F0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97286-242C-41A6-B76D-795542FA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E1C74-A860-4CF2-8A0F-231AC25E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0D91A-AC47-42F7-8674-B6407AFC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56A44-2753-436B-AAEB-BEA23861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4A50A-1CA7-4234-8CDA-FD1CE2F5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28300-0E89-4163-8909-5AF33902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E7C-4527-4964-BD67-26B6E071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3BC4F-DF6E-4B30-9625-DA5CC91A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66BD2-3F4D-4D31-A2F2-0B36FF79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955C0-4CEA-4217-A272-5E7E1F00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B3545-25E9-4835-B914-299B908E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69957-1D78-4A1C-80C3-238F6BE7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2F851-2F92-4DB3-9032-F99CF72D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B60CB-72EB-4A63-89E3-7C088AC6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7EAA9-958F-4CD1-B435-C3801961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12158-64C1-4FA9-8CFA-A1DB4D6B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99CCB-CC52-4DB6-9CA2-CC88E104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BC52-F56C-4ADB-AC4F-C6B974522B0D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Łącznik prosty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rostokąt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rostokąt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rostokąt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rostokąt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rostokąt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rostokąt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D233-7827-49B9-9855-A4F6B60D8A35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974B-2E48-45FD-8212-8E58172047F3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rostokąt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rostokąt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rostokąt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Łącznik prosty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ipsa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ipsa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3FE1-6FF4-4A3D-BD8D-1939FD500968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rostokąt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rostokąt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rostokąt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Łącznik prosty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ipsa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ipsa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B8CB-26B2-4C0A-AE60-72A68452341A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AC64-DA3F-48FD-AE2F-BC9952D35E0B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rostokąt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rostokąt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rostokąt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rostokąt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rostokąt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rostokąt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rostokąt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Łącznik prosty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ipsa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ipsa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DABB-DA3A-4276-B21D-F93A55FA81F5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Łącznik prosty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630B-0E51-41B0-A2DA-965C822C56E2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Łącznik prosty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rostokąt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rostokąt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rostokąt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rostokąt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rostokąt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Łącznik prosty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rostokąt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ipsa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ipsa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F4AF-59DE-4BEA-BD4D-E49DE1E20B6E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2B87-143C-4FC8-8B18-C26C915DAB5F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rostokąt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rostokąt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0577-0993-47B5-94DB-EF81E075E336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rostokąt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rostokąt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rostokąt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rostokąt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rostokąt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Łącznik prosty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rostokąt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AC3A-23C8-4928-A48F-552D99BBE286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d16349"/>
                </a:solidFill>
                <a:latin typeface="Arial"/>
                <a:ea typeface="Arial"/>
              </a:rPr>
              <a:t>Pojęcia z zakresu ruchu drogowego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2" descr="C:\Users\Marzena\AppData\Local\Microsoft\Windows\Temporary Internet Files\Content.IE5\2RQKC6FH\MC900432435[1].wmf"/>
          <p:cNvPicPr/>
          <p:nvPr/>
        </p:nvPicPr>
        <p:blipFill>
          <a:blip r:embed="rId1"/>
          <a:stretch/>
        </p:blipFill>
        <p:spPr>
          <a:xfrm>
            <a:off x="2556000" y="2924280"/>
            <a:ext cx="40766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obocz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bocze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jest to część drogi przylegając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o jezdni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Może służyć do ruchu pieszych, postoju pojazdów it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11" descr="C:\Users\Marzena\AppData\Local\Microsoft\Windows\Temporary Internet Files\Content.IE5\2RQKC6FH\MC900432323[1].wmf"/>
          <p:cNvPicPr/>
          <p:nvPr/>
        </p:nvPicPr>
        <p:blipFill>
          <a:blip r:embed="rId1"/>
          <a:stretch/>
        </p:blipFill>
        <p:spPr>
          <a:xfrm>
            <a:off x="5357880" y="2432160"/>
            <a:ext cx="25304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ojazd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68360" y="162864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jaz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to środek transportu przeznaczo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o poruszania się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 drodz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3" descr="C:\Users\Krzysztof\AppData\Local\Microsoft\Windows\Temporary Internet Files\Content.IE5\1JWH5UXW\MC900150140[1].wmf"/>
          <p:cNvPicPr/>
          <p:nvPr/>
        </p:nvPicPr>
        <p:blipFill>
          <a:blip r:embed="rId1"/>
          <a:stretch/>
        </p:blipFill>
        <p:spPr>
          <a:xfrm>
            <a:off x="5724360" y="1628640"/>
            <a:ext cx="3006720" cy="21099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C:\Users\Krzysztof\AppData\Local\Microsoft\Windows\Temporary Internet Files\Content.IE5\1F4AEUNC\MC900432433[1].wmf"/>
          <p:cNvPicPr/>
          <p:nvPr/>
        </p:nvPicPr>
        <p:blipFill>
          <a:blip r:embed="rId2"/>
          <a:stretch/>
        </p:blipFill>
        <p:spPr>
          <a:xfrm>
            <a:off x="6012000" y="4292640"/>
            <a:ext cx="2305080" cy="21081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" descr="C:\Users\Marzena\AppData\Local\Microsoft\Windows\Temporary Internet Files\Content.IE5\G1EVWPQT\MC900320520[1].wmf"/>
          <p:cNvPicPr/>
          <p:nvPr/>
        </p:nvPicPr>
        <p:blipFill>
          <a:blip r:embed="rId3"/>
          <a:stretch/>
        </p:blipFill>
        <p:spPr>
          <a:xfrm>
            <a:off x="2050920" y="4221000"/>
            <a:ext cx="279108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ojazd uprzywilejowany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jazd uprzywilejowany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jazd wysyłający jednocześnie sygnały świetlne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 postaci niebieskich świateł błyskowych i sygnały dźwiękowe o zmiennym ton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4" name="Picture 2" descr="C:\Users\Krzysztof\AppData\Local\Microsoft\Windows\Temporary Internet Files\Content.IE5\1JWH5UXW\MC900433640[1].wmf"/>
          <p:cNvPicPr/>
          <p:nvPr/>
        </p:nvPicPr>
        <p:blipFill>
          <a:blip r:embed="rId1"/>
          <a:stretch/>
        </p:blipFill>
        <p:spPr>
          <a:xfrm>
            <a:off x="6372360" y="4076640"/>
            <a:ext cx="2322360" cy="16560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C:\Users\Krzysztof\AppData\Local\Microsoft\Windows\Temporary Internet Files\Content.IE5\1F4AEUNC\MC900388716[1].wmf"/>
          <p:cNvPicPr/>
          <p:nvPr/>
        </p:nvPicPr>
        <p:blipFill>
          <a:blip r:embed="rId2"/>
          <a:stretch/>
        </p:blipFill>
        <p:spPr>
          <a:xfrm>
            <a:off x="3708360" y="4005360"/>
            <a:ext cx="2533680" cy="1727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C:\Users\Krzysztof\AppData\Local\Microsoft\Windows\Temporary Internet Files\Content.IE5\1F4AEUNC\MC900320998[1].wmf"/>
          <p:cNvPicPr/>
          <p:nvPr/>
        </p:nvPicPr>
        <p:blipFill>
          <a:blip r:embed="rId3"/>
          <a:stretch/>
        </p:blipFill>
        <p:spPr>
          <a:xfrm>
            <a:off x="324000" y="4005360"/>
            <a:ext cx="2968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rzejazd dla rowerzystów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24000" y="1599840"/>
            <a:ext cx="3960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rzejazd dla rowerzystów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to część jezdni, torowiska lub drogi dla rowerów przeznaczona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do przejeżdżania przez rowerzystów oraz oznaczona odpowiednimi znakam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Picture 2" descr="Plik:Znak D-6a.svg"/>
          <p:cNvPicPr/>
          <p:nvPr/>
        </p:nvPicPr>
        <p:blipFill>
          <a:blip r:embed="rId1"/>
          <a:stretch/>
        </p:blipFill>
        <p:spPr>
          <a:xfrm>
            <a:off x="4427640" y="18446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rzejście dla pieszych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78920" y="1599840"/>
            <a:ext cx="3816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rzejście dla pieszych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to część jezdni, torowiska lub drogi dla rowerów przeznaczona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o ruchu pieszych oraz oznaczona odpowiednimi znakam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Picture 2" descr="Plik:Znak D-6.svg"/>
          <p:cNvPicPr/>
          <p:nvPr/>
        </p:nvPicPr>
        <p:blipFill>
          <a:blip r:embed="rId1"/>
          <a:stretch/>
        </p:blipFill>
        <p:spPr>
          <a:xfrm>
            <a:off x="3995640" y="1557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rzystanek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250920" y="160020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rzystanek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jest to miejsce zatrzymywania się pojazdów transportu publicznego. Przystanki oznaczone są odpowiednimi znakami drogowymi.</a:t>
            </a:r>
            <a:br>
              <a:rPr sz="2700"/>
            </a:b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-15 Przystanek autobusowy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-16 Przystanek trolejbusowy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-17 Przystanek tramwajow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Picture 2" descr="Plik:Znak D-15.svg"/>
          <p:cNvPicPr/>
          <p:nvPr/>
        </p:nvPicPr>
        <p:blipFill>
          <a:blip r:embed="rId1"/>
          <a:stretch/>
        </p:blipFill>
        <p:spPr>
          <a:xfrm>
            <a:off x="6804000" y="260280"/>
            <a:ext cx="1584360" cy="1981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4" descr="Plik:Znak D-16.svg"/>
          <p:cNvPicPr/>
          <p:nvPr/>
        </p:nvPicPr>
        <p:blipFill>
          <a:blip r:embed="rId2"/>
          <a:stretch/>
        </p:blipFill>
        <p:spPr>
          <a:xfrm>
            <a:off x="6775560" y="2421000"/>
            <a:ext cx="1612800" cy="2016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" descr="Plik:Znak D-17.svg"/>
          <p:cNvPicPr/>
          <p:nvPr/>
        </p:nvPicPr>
        <p:blipFill>
          <a:blip r:embed="rId3"/>
          <a:stretch/>
        </p:blipFill>
        <p:spPr>
          <a:xfrm>
            <a:off x="6775560" y="4581360"/>
            <a:ext cx="16128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Rondo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Rondo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krzyżowanie dróg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o ruchu okrężnym,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na którym pojazdy poruszają się wokół centralnej wysepki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 kierunku przeciwnym do ruchu wskazówek zegar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0" name="Picture 2" descr="C:\Users\Krzysztof\AppData\Local\Microsoft\Windows\Temporary Internet Files\Content.IE5\1F4AEUNC\MC900432435[1].wmf"/>
          <p:cNvPicPr/>
          <p:nvPr/>
        </p:nvPicPr>
        <p:blipFill>
          <a:blip r:embed="rId1"/>
          <a:stretch/>
        </p:blipFill>
        <p:spPr>
          <a:xfrm>
            <a:off x="4780080" y="1146240"/>
            <a:ext cx="36874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Ruch kierowany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Ruch kierowany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- ruch otwierany i zamykany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za pomocą sygnalizacji świetlnej albo przez uprawnioną osobę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2" descr="C:\Users\Krzysztof\AppData\Local\Microsoft\Windows\Temporary Internet Files\Content.IE5\1F4AEUNC\MC900433882[1].png"/>
          <p:cNvPicPr/>
          <p:nvPr/>
        </p:nvPicPr>
        <p:blipFill>
          <a:blip r:embed="rId1"/>
          <a:stretch/>
        </p:blipFill>
        <p:spPr>
          <a:xfrm>
            <a:off x="2050920" y="2997360"/>
            <a:ext cx="2449800" cy="24476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" descr="C:\Users\Krzysztof\AppData\Local\Microsoft\Windows\Temporary Internet Files\Content.IE5\C9O4IJX0\MC900221911[1].wmf"/>
          <p:cNvPicPr/>
          <p:nvPr/>
        </p:nvPicPr>
        <p:blipFill>
          <a:blip r:embed="rId2"/>
          <a:stretch/>
        </p:blipFill>
        <p:spPr>
          <a:xfrm>
            <a:off x="5624640" y="2781360"/>
            <a:ext cx="2066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Skrzyżowanie dróg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24000" y="1413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Skrzyżowanie dró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jest miejscem, gdzie następuje przecinanie się kierunków ruchu, jak również miejscem, gdzie występuje zmiana dotychczasowego kierunku jazd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krzyżowaniem nie jest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dwupoziomowe przecięcie dróg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przecięcie drogi gruntowej z drogą twardą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wjazd do posesji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przecięcie drogi twardej z drogą do np. zajezdni tramwajowej lub autobusowej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7" name="Picture 3" descr="C:\Users\Krzysztof\AppData\Local\Microsoft\Windows\Temporary Internet Files\Content.IE5\CTDX1DGY\MC900299751[1].wmf"/>
          <p:cNvPicPr/>
          <p:nvPr/>
        </p:nvPicPr>
        <p:blipFill>
          <a:blip r:embed="rId1"/>
          <a:stretch/>
        </p:blipFill>
        <p:spPr>
          <a:xfrm>
            <a:off x="6804000" y="3213000"/>
            <a:ext cx="2095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300" spc="-1" strike="noStrike">
                <a:solidFill>
                  <a:srgbClr val="7b9899"/>
                </a:solidFill>
                <a:latin typeface="Georgia"/>
              </a:rPr>
              <a:t>Skrzyżowanie dróg równorzędny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24000" y="1483920"/>
            <a:ext cx="8496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Skrzyżowanie dróg równorzędnych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jest to skrzyżowanie dróg bez określonego pierwszeństwa na których kierunki jazdy oddzielone są podwójną linią ciągłą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Skrzyżowaniem dróg równorzędnych jest również każde inne połączenie dróg na których w żaden sposób nie jest określone pierwszeństwo przejazdu za pomocą znaków drogowych bądź sygnalizacji świetlnej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0" name="Picture 5" descr="http://t0.gstatic.com/images?q=tbn:ANd9GcRgimtzhZ0X5ak2bMLQVpDvM9JTz5EdeApFeUWM3qu84UV2vxYw"/>
          <p:cNvPicPr/>
          <p:nvPr/>
        </p:nvPicPr>
        <p:blipFill>
          <a:blip r:embed="rId1"/>
          <a:stretch/>
        </p:blipFill>
        <p:spPr>
          <a:xfrm>
            <a:off x="3708360" y="5013360"/>
            <a:ext cx="18003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Autostrada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6840" y="1599840"/>
            <a:ext cx="5267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Autostrad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to droga dwujezdniowa oznaczona za pomocą odpowiednich znaków, na której nie dopuszcza się ruchu poprzecznego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przeznaczona wyłącznie do ruchu pojazdów samochodowych, które potrafią rozwinąć prędkość od 40km/h na równej, poziomej nawierzchni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2" descr="http://www.automotopedia.pl/pliki/ed/Infrastruktura%20drogowa/406px-znak_d9.svg.png"/>
          <p:cNvPicPr/>
          <p:nvPr/>
        </p:nvPicPr>
        <p:blipFill>
          <a:blip r:embed="rId1"/>
          <a:stretch/>
        </p:blipFill>
        <p:spPr>
          <a:xfrm>
            <a:off x="5940360" y="1413000"/>
            <a:ext cx="1941480" cy="2447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http://t3.gstatic.com/images?q=tbn:ANd9GcQ5AMM7EHI71d3XXuDTtTeKugl4ouev-Ep9njUdYWYAGo4RPzafHBSdly6o"/>
          <p:cNvPicPr/>
          <p:nvPr/>
        </p:nvPicPr>
        <p:blipFill>
          <a:blip r:embed="rId2"/>
          <a:stretch/>
        </p:blipFill>
        <p:spPr>
          <a:xfrm>
            <a:off x="6084720" y="4005360"/>
            <a:ext cx="19051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Strefa zamieszkania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599840"/>
            <a:ext cx="4114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Strefa zamieszkania</a:t>
            </a:r>
            <a:br>
              <a:rPr sz="2500"/>
            </a:br>
            <a:r>
              <a:rPr b="1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to obszar obejmujący drogi publiczne i inne drogi, na którym obowiązują szczególne zasady ruchu drogowego, a wjazdy i wyjazdu oznaczone są odpowiednimi znakami.</a:t>
            </a:r>
            <a:br>
              <a:rPr sz="2500"/>
            </a:br>
            <a:br>
              <a:rPr sz="2500"/>
            </a:b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D-40 Strefa zamieszkania</a:t>
            </a:r>
            <a:br>
              <a:rPr sz="2500"/>
            </a:b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D-41 Koniec strefy zamieszkani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3" name="Picture 2" descr="Plik:Znak D-40.svg"/>
          <p:cNvPicPr/>
          <p:nvPr/>
        </p:nvPicPr>
        <p:blipFill>
          <a:blip r:embed="rId1"/>
          <a:stretch/>
        </p:blipFill>
        <p:spPr>
          <a:xfrm>
            <a:off x="4791240" y="1628640"/>
            <a:ext cx="3692520" cy="2160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Plik:Znak D-41.svg"/>
          <p:cNvPicPr/>
          <p:nvPr/>
        </p:nvPicPr>
        <p:blipFill>
          <a:blip r:embed="rId2"/>
          <a:stretch/>
        </p:blipFill>
        <p:spPr>
          <a:xfrm>
            <a:off x="4819680" y="3933720"/>
            <a:ext cx="37004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Szczególna ostrożność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94920" y="1599840"/>
            <a:ext cx="5040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Szczególna ostrożność -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lega na zwiększeniu uwagi i dostosowaniu zachowania uczestników ruchu do warunków i sytuacji zmieniających się na drodze, w stopniu umożliwiającym odpowiednio szybkie reagowan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7" name="Picture 1" descr="C:\Users\Marzena\AppData\Local\Microsoft\Windows\Temporary Internet Files\Content.IE5\LW2ZZFIX\MC900078790[1].wmf"/>
          <p:cNvPicPr/>
          <p:nvPr/>
        </p:nvPicPr>
        <p:blipFill>
          <a:blip r:embed="rId1"/>
          <a:stretch/>
        </p:blipFill>
        <p:spPr>
          <a:xfrm>
            <a:off x="5576760" y="2997360"/>
            <a:ext cx="2781360" cy="2663640"/>
          </a:xfrm>
          <a:prstGeom prst="rect">
            <a:avLst/>
          </a:prstGeom>
          <a:ln w="0">
            <a:noFill/>
          </a:ln>
        </p:spPr>
      </p:pic>
      <p:sp>
        <p:nvSpPr>
          <p:cNvPr id="678" name="pole tekstowe 5"/>
          <p:cNvSpPr/>
          <p:nvPr/>
        </p:nvSpPr>
        <p:spPr>
          <a:xfrm>
            <a:off x="7380360" y="32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Uczestnik ruchu drogowego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250560" y="1599840"/>
            <a:ext cx="8893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Uczestnik ruchu drogowego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ieszy, kierujący,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a także inne osoby przebywające w pojeździe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lub na pojeździe znajdującym się na drodz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1" name="Picture 3" descr="C:\Users\Krzysztof\AppData\Local\Microsoft\Windows\Temporary Internet Files\Content.IE5\C9O4IJX0\MC900360920[1].wmf"/>
          <p:cNvPicPr/>
          <p:nvPr/>
        </p:nvPicPr>
        <p:blipFill>
          <a:blip r:embed="rId1"/>
          <a:stretch/>
        </p:blipFill>
        <p:spPr>
          <a:xfrm>
            <a:off x="5940360" y="3068640"/>
            <a:ext cx="2600280" cy="18730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2" descr="C:\Users\Krzysztof\AppData\Local\Microsoft\Windows\Temporary Internet Files\Content.IE5\1JWH5UXW\MC900338450[1].wmf"/>
          <p:cNvPicPr/>
          <p:nvPr/>
        </p:nvPicPr>
        <p:blipFill>
          <a:blip r:embed="rId2"/>
          <a:stretch/>
        </p:blipFill>
        <p:spPr>
          <a:xfrm>
            <a:off x="395280" y="3500280"/>
            <a:ext cx="2459160" cy="18003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C:\Users\Krzysztof\AppData\Local\Microsoft\Windows\Temporary Internet Files\Content.IE5\1JWH5UXW\MC900197731[1].wmf"/>
          <p:cNvPicPr/>
          <p:nvPr/>
        </p:nvPicPr>
        <p:blipFill>
          <a:blip r:embed="rId3"/>
          <a:stretch/>
        </p:blipFill>
        <p:spPr>
          <a:xfrm>
            <a:off x="2938320" y="4724280"/>
            <a:ext cx="31528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Chodnik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Chodnik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jest to część drogi przeznaczona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do ruchu pieszych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1" descr="C:\Users\Marzena\AppData\Local\Microsoft\Windows\Temporary Internet Files\Content.IE5\EFW7420A\MC900432323[1].wmf"/>
          <p:cNvPicPr/>
          <p:nvPr/>
        </p:nvPicPr>
        <p:blipFill>
          <a:blip r:embed="rId1"/>
          <a:stretch/>
        </p:blipFill>
        <p:spPr>
          <a:xfrm>
            <a:off x="4780080" y="2414520"/>
            <a:ext cx="315108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Droga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6840" y="1599840"/>
            <a:ext cx="78598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roga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 to miejsce przeznaczone do ruchu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i postoju pojazdów oraz do ruchu pieszych (łącznie z poboczem, a także z torowiskiem pojazdów szynowych znajdujących się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 obrębie pasa drogowego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1" descr="C:\Users\Marzena\AppData\Local\Microsoft\Windows\Temporary Internet Files\Content.IE5\G1EVWPQT\MC900434207[1].wmf"/>
          <p:cNvPicPr/>
          <p:nvPr/>
        </p:nvPicPr>
        <p:blipFill>
          <a:blip r:embed="rId1"/>
          <a:stretch/>
        </p:blipFill>
        <p:spPr>
          <a:xfrm>
            <a:off x="2340000" y="4221000"/>
            <a:ext cx="43149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  <a:ea typeface="Arial"/>
              </a:rPr>
              <a:t>Droga ekspresow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roga ekspresow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jest to droga jedn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i dwujezdniowa oznaczona za pomocą odpowiednich znaków, przeznaczona wyłącznie do ruchu pojazdów samochodowyc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2" descr="Plik:Znak D7.svg"/>
          <p:cNvPicPr/>
          <p:nvPr/>
        </p:nvPicPr>
        <p:blipFill>
          <a:blip r:embed="rId1"/>
          <a:stretch/>
        </p:blipFill>
        <p:spPr>
          <a:xfrm>
            <a:off x="5175360" y="1700280"/>
            <a:ext cx="36957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Jezdnia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362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Georgia"/>
              </a:rPr>
              <a:t>Jezdnia</a:t>
            </a: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 to część drogi przeznaczona do ruchu pojazdów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Ze względu na kierunek poruszania się pojazdów jezdnie mogą być dwukierunkowe lub jednokierunkowe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Jezdnia dwukierunkowa przeznaczona jest do ruchu pojazdów w obu przeciwnych kierunkach, natomiast jezdnia jednokierunkowa - tylko do ruchu w jednym określonym kierunku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7" descr="C:\Users\Marzena\AppData\Local\Microsoft\Windows\Temporary Internet Files\Content.IE5\G1EVWPQT\MC900429615[1].wmf"/>
          <p:cNvPicPr/>
          <p:nvPr/>
        </p:nvPicPr>
        <p:blipFill>
          <a:blip r:embed="rId1"/>
          <a:stretch/>
        </p:blipFill>
        <p:spPr>
          <a:xfrm>
            <a:off x="3203640" y="4505400"/>
            <a:ext cx="28083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Kierujący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Kierujący to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osoba, która kieruje pojazdem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oraz osoba, która prowadzi zorganizowaną grupę pieszyc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Picture 4" descr="C:\Users\Marzena\AppData\Local\Microsoft\Windows\Temporary Internet Files\Content.IE5\EFW7420A\MC900216706[1].wmf"/>
          <p:cNvPicPr/>
          <p:nvPr/>
        </p:nvPicPr>
        <p:blipFill>
          <a:blip r:embed="rId1"/>
          <a:stretch/>
        </p:blipFill>
        <p:spPr>
          <a:xfrm>
            <a:off x="2484360" y="3645000"/>
            <a:ext cx="3187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Obszar zabudowany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2364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Obszar zabudowan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jest to obszar oznaczony znakami: 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-42 Obszar zabudowany 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-43 Koniec obszaru zabudowaneg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2" descr="Plik:Znak d42.svg"/>
          <p:cNvPicPr/>
          <p:nvPr/>
        </p:nvPicPr>
        <p:blipFill>
          <a:blip r:embed="rId1"/>
          <a:stretch/>
        </p:blipFill>
        <p:spPr>
          <a:xfrm>
            <a:off x="4716360" y="2565360"/>
            <a:ext cx="4048200" cy="16192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Plik:Znak d43.svg"/>
          <p:cNvPicPr/>
          <p:nvPr/>
        </p:nvPicPr>
        <p:blipFill>
          <a:blip r:embed="rId2"/>
          <a:stretch/>
        </p:blipFill>
        <p:spPr>
          <a:xfrm>
            <a:off x="4716360" y="4653000"/>
            <a:ext cx="39718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as ruchu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as ruchu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każdy z podłużnych pasów jezdni wystarczający do ruchu jednego rzędu pojazdów wielośladowyc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3" descr="C:\Users\Marzena\AppData\Local\Microsoft\Windows\Temporary Internet Files\Content.IE5\G1EVWPQT\MM900286792[2].gif"/>
          <p:cNvPicPr/>
          <p:nvPr/>
        </p:nvPicPr>
        <p:blipFill>
          <a:blip r:embed="rId1"/>
          <a:stretch/>
        </p:blipFill>
        <p:spPr>
          <a:xfrm>
            <a:off x="5148360" y="2708280"/>
            <a:ext cx="29671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31:49Z</dcterms:created>
  <dc:creator>Krzysztof</dc:creator>
  <dc:description/>
  <dc:language>en-US</dc:language>
  <cp:lastModifiedBy>Marzena</cp:lastModifiedBy>
  <dcterms:modified xsi:type="dcterms:W3CDTF">2013-07-31T14:00:26Z</dcterms:modified>
  <cp:revision>25</cp:revision>
  <dc:subject/>
  <dc:title>Pojęcia z zakresu ruchu drogowego</dc:title>
</cp:coreProperties>
</file>